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4F8-D836-44DF-A750-F7A04DED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CE7B-C8A0-46FE-A46C-DA589AC6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DB8B-6EF2-46ED-86F4-360EE270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1A9E-CD62-4B54-905D-B6A50E23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967B-B061-45AE-9001-AC5D4537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31FA-F168-4C87-A716-5C44953D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46FE-468C-466B-851C-E3B26479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E31B-86EB-4D88-8E9A-036921C6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F0CC-9FDC-447A-AD0F-72B144EF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C597-3528-4C1A-9D41-F1D94E69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8492-3E1F-4ED4-A706-542CF2D9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685-4865-4D29-A087-1866C865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9383-BC0C-48B0-B724-FE94FECE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A17B-A478-45A9-BBC7-6E66CCC5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F6E0-291B-4E0C-BCD8-729EEC92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D77A-E237-4502-8B92-8F511BC7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65DB-10C9-4B5D-B383-05C82693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EAE02-A709-4C4B-8DFD-E2AF3F44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0E1EF-EF67-4E8B-A276-D7A19084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760CB-5235-439A-AD6D-435C6871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BA5A7-17B1-4657-BB45-B7DDFB88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21ACB-30A8-4D8C-95AF-2922A6FD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2BC3-B4AE-4013-9746-A444B912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51A6E-2348-447C-9CB0-ED4E3758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C248E-3A1C-40E5-8D62-456766C6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67F4A-A411-401B-A8AB-77E25351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D1E9B-7498-4993-9094-8BB08419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AC040-B987-4C3F-90F5-85B54044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B8962-6754-4F42-8CCA-BBE2C948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856AC-C5BF-4900-8C34-7AB9AA49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56FD8-E08F-4CAB-B608-0B799215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82E89-418E-4775-9220-9D51BCF5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DC0D8-F8F1-4F49-BB34-E6F570D3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7F55-AB17-4F11-BFB7-974E56E3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7161C-154D-49AF-AC76-7C888016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34688-254C-4382-8A29-2C530C4E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3AEB9-976B-43B8-B5E1-730DDE50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2B17A-7080-4C00-B684-A9FAD383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0BF35-E3F7-447D-94D8-4C780F32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68C58-F921-4ECA-89FC-A437EB40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A4E47-487E-4FE7-9757-83494604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D0527-B1DC-41ED-848E-8BC2E84B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C4247-D7EC-4292-A70D-C530D0D3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BDB78-C7D8-4694-8D47-8B1BBA5F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E8F-0D9D-4D22-B03D-2C08B5A1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CA8EB-8F24-477F-B127-448C2FCA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E207D-6F2D-4594-8164-D6516A02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B253C-BC09-4205-8BD0-D3E38A8A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8FEE9-AE1B-4A01-8083-458692B5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4F6D3-D4F5-4ED9-8C7E-C6AE2B5F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8A025-AEBF-4CCA-BAAA-27EB3ABB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105A1-C6CE-40EA-9E33-F606FCCF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DD242-7341-46AF-8839-48D9A680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4EE6B-AF53-46C2-A005-EC778ED3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EB05B-23FE-47A9-AF13-6A6BEF6D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42B-8355-4CA3-9F89-3C2834C4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6559B-1986-4594-B8C6-CE1A378E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2FDFA-1A75-4BE8-88AF-BAEAAA75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EA24B-0B63-45C4-A2C5-A5690A6E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3AC36-6822-4F4E-94DA-281BFCF3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1A0F7-B408-42CA-8BF8-569F9E41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3E352-A7B9-478D-9DFD-362900CD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56CF5-403C-48AC-91F4-2790F211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7AB81-706D-42D6-99AF-CA90B11A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22956-8DFB-4D10-9B3A-2B9EB440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5B4E9-22D9-420A-922E-32D9E05E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4C4-13B7-4FC8-AF18-FACD2BAD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4EA47-6ABF-4579-947B-044AC7A8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2D17C-8752-4E5F-AD21-B1DF5F47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BEBC9-55B0-48AF-9E42-1C91B42A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78C4-F555-4A0A-90CB-A005EAE7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0058-8B45-46D8-9564-5089F362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445F-CF98-4FB4-9B8E-B5927B5352E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6B47-66B1-4587-9C06-9F82C3BB294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E046-03B0-40B5-BBEB-0256A6F8DB6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E9BD-16CC-4598-A3DB-74BFAA8BE71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1A49-2827-4BB8-93B2-450C10AB02E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175C-8DF6-4C34-9B9D-5EC78947A8B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096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10 Types of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933480" y="5641920"/>
            <a:ext cx="18097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"/>
          <p:cNvPicPr/>
          <p:nvPr/>
        </p:nvPicPr>
        <p:blipFill>
          <a:blip r:embed="rId1"/>
          <a:srcRect l="50627" t="26003" r="20625" b="18000"/>
          <a:stretch/>
        </p:blipFill>
        <p:spPr>
          <a:xfrm>
            <a:off x="2133720" y="228600"/>
            <a:ext cx="5257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at do you know?</a:t>
            </a: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me as many sources of energy as you can identify in this roo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ssential Questions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y is energy so importa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are some of the pros and cons of the different energy source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can combining the various energy sources help provide us with efficient sources of energy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otential and Kinetic Ener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 energy sources can be described as potential and kinetic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tential energy – stored energy, or energy that can be kept and used at a later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inetic energy – energy in motion – the energy is contained in the movement of the object or movement inside the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10 Types of Ener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inetic – energy is motion (ex- a ball mov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ravitational energy – energy due to the force of gravity (ex- ball held above the ground and dropp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pring energy - objects that can be straightened and then return to their shape later (ex- spr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6708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ical energy – energy made available by the flow of electric charge through a conductor (ex- electricity and static cl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gnetic energy – a magnetic field that contains energy (ex-magnetic and a compas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chanical energy – energy of motion of objects (ex- scissors opening and closing and clicking a computer mou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e 10 Types of Ener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energy – sensible and latent energy – energy given of by temperature or a change in state (ex- hot water and stea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ar energy – fission and fusion  - when atoms are broken apart or fused together (ex- heavy wa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energy – energy produced by the frequencies of radiation (ex- x-ray, solar, and microwav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 energy – chemical compounds composed of atoms that form chemical bonds (ex- batteries, oil, and gunpowd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Energy Changes Forms</a:t>
            </a:r>
            <a:br>
              <a:rPr sz="4100"/>
            </a:br>
            <a:r>
              <a:rPr b="0" i="1" lang="en-US" sz="1800" spc="-1" strike="noStrike">
                <a:solidFill>
                  <a:srgbClr val="ffffff"/>
                </a:solidFill>
                <a:latin typeface="Franklin Gothic Book"/>
              </a:rPr>
              <a:t>Can you identify the different forms of energy and what they change to?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0" name="Picture 2" descr="wok graphic"/>
          <p:cNvPicPr/>
          <p:nvPr/>
        </p:nvPicPr>
        <p:blipFill>
          <a:blip r:embed="rId1"/>
          <a:stretch/>
        </p:blipFill>
        <p:spPr>
          <a:xfrm>
            <a:off x="533520" y="1905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flashlight graphic"/>
          <p:cNvPicPr/>
          <p:nvPr/>
        </p:nvPicPr>
        <p:blipFill>
          <a:blip r:embed="rId2"/>
          <a:stretch/>
        </p:blipFill>
        <p:spPr>
          <a:xfrm>
            <a:off x="2590920" y="1905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guitar graphic"/>
          <p:cNvPicPr/>
          <p:nvPr/>
        </p:nvPicPr>
        <p:blipFill>
          <a:blip r:embed="rId3"/>
          <a:stretch/>
        </p:blipFill>
        <p:spPr>
          <a:xfrm>
            <a:off x="4572000" y="1905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blinds graphics"/>
          <p:cNvPicPr/>
          <p:nvPr/>
        </p:nvPicPr>
        <p:blipFill>
          <a:blip r:embed="rId4"/>
          <a:stretch/>
        </p:blipFill>
        <p:spPr>
          <a:xfrm>
            <a:off x="6553080" y="19051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9"/>
          <p:cNvSpPr/>
          <p:nvPr/>
        </p:nvSpPr>
        <p:spPr>
          <a:xfrm>
            <a:off x="498600" y="388620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 W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10"/>
          <p:cNvSpPr/>
          <p:nvPr/>
        </p:nvSpPr>
        <p:spPr>
          <a:xfrm>
            <a:off x="2590920" y="3886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sh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11"/>
          <p:cNvSpPr/>
          <p:nvPr/>
        </p:nvSpPr>
        <p:spPr>
          <a:xfrm>
            <a:off x="4572000" y="38862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itar String Pluc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12"/>
          <p:cNvSpPr/>
          <p:nvPr/>
        </p:nvSpPr>
        <p:spPr>
          <a:xfrm>
            <a:off x="6553080" y="39067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inds being ope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13"/>
          <p:cNvSpPr/>
          <p:nvPr/>
        </p:nvSpPr>
        <p:spPr>
          <a:xfrm>
            <a:off x="457200" y="5265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f0"/>
                </a:solidFill>
                <a:latin typeface="Arial"/>
              </a:rPr>
              <a:t>Electrical to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14"/>
          <p:cNvSpPr/>
          <p:nvPr/>
        </p:nvSpPr>
        <p:spPr>
          <a:xfrm>
            <a:off x="2590920" y="525780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f0"/>
                </a:solidFill>
                <a:latin typeface="Arial"/>
              </a:rPr>
              <a:t>Chemical in batteries to 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15"/>
          <p:cNvSpPr/>
          <p:nvPr/>
        </p:nvSpPr>
        <p:spPr>
          <a:xfrm>
            <a:off x="4419720" y="525780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f0"/>
                </a:solidFill>
                <a:latin typeface="Arial"/>
              </a:rPr>
              <a:t>Mechanical to Kinetic (Sou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6400800" y="52657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f0"/>
                </a:solidFill>
                <a:latin typeface="Arial"/>
              </a:rPr>
              <a:t>Mechanical to Gravita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Energy Changes Forms</a:t>
            </a:r>
            <a:br>
              <a:rPr sz="4100"/>
            </a:br>
            <a:r>
              <a:rPr b="0" i="1" lang="en-US" sz="1800" spc="-1" strike="noStrike">
                <a:solidFill>
                  <a:srgbClr val="ffffff"/>
                </a:solidFill>
                <a:latin typeface="Franklin Gothic Book"/>
              </a:rPr>
              <a:t>Can you identify the different forms of energy and what they change to?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TextBox 9"/>
          <p:cNvSpPr/>
          <p:nvPr/>
        </p:nvSpPr>
        <p:spPr>
          <a:xfrm>
            <a:off x="498600" y="388620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rning Can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10"/>
          <p:cNvSpPr/>
          <p:nvPr/>
        </p:nvSpPr>
        <p:spPr>
          <a:xfrm>
            <a:off x="2590920" y="388620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d C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11"/>
          <p:cNvSpPr/>
          <p:nvPr/>
        </p:nvSpPr>
        <p:spPr>
          <a:xfrm>
            <a:off x="4572000" y="38862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ow from Crossb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6553080" y="3906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 Scan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457200" y="52657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f0"/>
                </a:solidFill>
                <a:latin typeface="Arial"/>
              </a:rPr>
              <a:t>Chemical (wax) to 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2590920" y="52578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f0"/>
                </a:solidFill>
                <a:latin typeface="Arial"/>
              </a:rPr>
              <a:t>Gravitational to Kine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15"/>
          <p:cNvSpPr/>
          <p:nvPr/>
        </p:nvSpPr>
        <p:spPr>
          <a:xfrm>
            <a:off x="4419720" y="52578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f0"/>
                </a:solidFill>
                <a:latin typeface="Arial"/>
              </a:rPr>
              <a:t>Spring to Kine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6400800" y="52657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b0f0"/>
                </a:solidFill>
                <a:latin typeface="Arial"/>
              </a:rPr>
              <a:t>Light to Electr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2" descr="candle graphic"/>
          <p:cNvPicPr/>
          <p:nvPr/>
        </p:nvPicPr>
        <p:blipFill>
          <a:blip r:embed="rId1"/>
          <a:stretch/>
        </p:blipFill>
        <p:spPr>
          <a:xfrm>
            <a:off x="533520" y="1905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hour glass graphic"/>
          <p:cNvPicPr/>
          <p:nvPr/>
        </p:nvPicPr>
        <p:blipFill>
          <a:blip r:embed="rId2"/>
          <a:stretch/>
        </p:blipFill>
        <p:spPr>
          <a:xfrm>
            <a:off x="2819520" y="1932120"/>
            <a:ext cx="1143000" cy="15444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crossbow graphic"/>
          <p:cNvPicPr/>
          <p:nvPr/>
        </p:nvPicPr>
        <p:blipFill>
          <a:blip r:embed="rId3"/>
          <a:stretch/>
        </p:blipFill>
        <p:spPr>
          <a:xfrm>
            <a:off x="4572000" y="1905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hand scanner graphic"/>
          <p:cNvPicPr/>
          <p:nvPr/>
        </p:nvPicPr>
        <p:blipFill>
          <a:blip r:embed="rId4"/>
          <a:stretch/>
        </p:blipFill>
        <p:spPr>
          <a:xfrm>
            <a:off x="6629400" y="1905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ploration Time – Your Task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further explore the 10 types of energy, you will be assigned a source to research and create a poster presentation to present to the clas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ou should include the following item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finition of your energy sour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ive three examples with images of your energy sourc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w is your energy source currently being use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 creative and think of a way you could use this energy source that is not already being used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Limit – 3 days for research and preparation and 1 day to pres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00:16:39Z</dcterms:created>
  <dc:creator>Christie</dc:creator>
  <dc:description/>
  <dc:language>en-US</dc:language>
  <cp:lastModifiedBy>GSCS</cp:lastModifiedBy>
  <dcterms:modified xsi:type="dcterms:W3CDTF">2011-11-16T12:41:19Z</dcterms:modified>
  <cp:revision>4</cp:revision>
  <dc:subject/>
  <dc:title>Overview of Energy and Power</dc:title>
</cp:coreProperties>
</file>